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86762"/>
        <c:axId val="43393550"/>
      </c:barChart>
      <c:catAx>
        <c:axId val="58686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3550"/>
        <c:crosses val="autoZero"/>
        <c:auto val="1"/>
        <c:lblAlgn val="ctr"/>
        <c:lblOffset val="100"/>
        <c:noMultiLvlLbl val="0"/>
      </c:catAx>
      <c:valAx>
        <c:axId val="43393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6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F18-CFDE-4C40-B2B3-05A5AEE0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3EF-4D86-4651-B851-DD51A92D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9B9-E74E-434F-8CE8-A31176A1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08B-6E3F-436D-B441-1929750F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41B-660C-45BF-94C2-FB2D0807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383-8EC4-4A1B-850E-06DC10F2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A20-B0DD-4138-9213-7E525B16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588-A54C-41E9-9C94-951C7789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029-CB7C-4CE0-AFFB-6F7A044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504-B5E3-47B4-90AD-F67DB6BE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181-FDAE-446D-AC5E-9E6BA0D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9AC-CDD4-4029-BD64-DD383E1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807AF-0A19-4792-AF64-7743EFE941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