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24586"/>
        <c:axId val="97905805"/>
      </c:barChart>
      <c:catAx>
        <c:axId val="58245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05805"/>
        <c:crosses val="autoZero"/>
        <c:auto val="1"/>
        <c:lblAlgn val="ctr"/>
        <c:lblOffset val="100"/>
        <c:noMultiLvlLbl val="0"/>
      </c:catAx>
      <c:valAx>
        <c:axId val="979058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45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91AA-8DC2-4458-8987-3F5A956B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1B65-75E4-4DC8-85A1-164D9EB9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1FF5-463A-4069-8E14-0FA9BA79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7DCA-0420-4883-A586-787536E7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04F2-13CD-469E-A8CC-75736B1A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58A3-73B2-4C5A-B24F-5B26D14C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9218-FAD1-442A-9023-9F961EAB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3051-C806-4409-AA7D-59143909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62D6-D69B-43BA-8C89-9BBB6F3E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2882-3762-4A1C-AD32-C4364596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CEFC-A92D-468B-8C55-70D2E59A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4CAB-3934-4180-A52E-ABFCBDD8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B6784-247F-4956-AD7A-1BC554F2ED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