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57443"/>
        <c:axId val="51519922"/>
      </c:barChart>
      <c:catAx>
        <c:axId val="52757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19922"/>
        <c:crosses val="autoZero"/>
        <c:auto val="1"/>
        <c:lblAlgn val="ctr"/>
        <c:lblOffset val="100"/>
        <c:noMultiLvlLbl val="0"/>
      </c:catAx>
      <c:valAx>
        <c:axId val="51519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7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A0E-E69C-4CEC-A122-156DF2B0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C5D-1807-4F11-BEC0-CFDDA58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961-6494-4295-A360-E39BFDD4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085-8D2F-4A06-891B-1C95C8FE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4A7-4DD1-405A-8CBF-E23278BC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7DE-834F-4416-9B5D-AD2ED1B5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8D8-EDFA-4045-AAC6-44908EF4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6D3-8281-4A6E-84F0-5E68A832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F40-8D66-448A-B6AD-8CB452D5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202-560F-49D7-8BB2-7D26B27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14D-FE82-4849-8AD5-F125456D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325-AD76-411F-8029-0449F83F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78A0C-FCF7-4351-9F57-1468572AD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