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83789"/>
        <c:axId val="46505003"/>
      </c:barChart>
      <c:catAx>
        <c:axId val="88083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05003"/>
        <c:crosses val="autoZero"/>
        <c:auto val="1"/>
        <c:lblAlgn val="ctr"/>
        <c:lblOffset val="100"/>
        <c:noMultiLvlLbl val="0"/>
      </c:catAx>
      <c:valAx>
        <c:axId val="465050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83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16E2-A9F9-4CDB-AC64-565BAECB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8FB1-EDD6-4190-ACB1-0D9AAFF1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BD60-7AA9-40FE-8744-B9A47A3C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0F93-1B62-4F8B-8E63-B5EE46D9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BE7-8788-478C-AF63-18B076C1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5B5B-12EA-455A-9521-C95FBB40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485E-F00D-4328-807C-27D7D5FE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2822-2610-4918-AF61-4C0DCCFA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A52-B94B-4B09-879B-47B49DB0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829F-9AC1-4603-8EB8-84CF8933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05F2-206F-4A02-B40D-0AF787EF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3280-30CB-4F5D-8DD4-CE49A5BB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1BE77-A3F7-4DCB-A1CF-4A329ABD2B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