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666387"/>
        <c:axId val="98167672"/>
      </c:barChart>
      <c:catAx>
        <c:axId val="626663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67672"/>
        <c:crosses val="autoZero"/>
        <c:auto val="1"/>
        <c:lblAlgn val="ctr"/>
        <c:lblOffset val="100"/>
        <c:noMultiLvlLbl val="0"/>
      </c:catAx>
      <c:valAx>
        <c:axId val="981676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663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209F-65CA-4BA7-994F-DE4BBA60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E905-8C24-467E-8ED4-CBA3EB1A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0F95-A124-4E43-85C5-B16992C9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DD0F-764B-46D1-B31A-C81CDD29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1DD6-6DB8-48E1-9131-5F90CCFD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0898-A07C-4E0F-B715-C78F6DD6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D891-1F3E-49F9-A7A7-62B5678B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13D1-A840-4E58-B5A8-93A23514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5EB8-DDF5-48B7-87F5-D783B3B3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7F42-9A0D-4CD9-B647-412D884E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06D0-F846-4731-AFAC-7E7AC76C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67A3-6BA3-4384-AF17-BE1E1389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3C5A9-034C-4369-A4B0-29D6F924DB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