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52401"/>
        <c:axId val="56732202"/>
      </c:barChart>
      <c:catAx>
        <c:axId val="74552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32202"/>
        <c:crosses val="autoZero"/>
        <c:auto val="1"/>
        <c:lblAlgn val="ctr"/>
        <c:lblOffset val="100"/>
        <c:noMultiLvlLbl val="0"/>
      </c:catAx>
      <c:valAx>
        <c:axId val="56732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52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DA9-A3C9-468C-BD05-9545BCB0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BC5-513B-44EE-9775-FC3A1512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685-753E-4A0F-86CA-EAB88139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0E3-4932-466B-9E1F-945F1A3B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F8F-1A94-4BE1-ACD3-71E14AEB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707-5762-4FF3-A1A4-512C0F81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9AF-D3CC-4D3D-A6B6-2B4CB92A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A9F-AA76-4608-B747-164EB50C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F5E-8040-4B71-92EF-74CB74DC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A3D-2346-4BD0-9236-C194CF9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B40-8E2D-4E86-A7C3-D3A10C6A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952-1526-4300-9914-262AF021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DF69F-384B-4342-81E9-553F379379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