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6853"/>
        <c:axId val="5896019"/>
      </c:barChart>
      <c:catAx>
        <c:axId val="84556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019"/>
        <c:crosses val="autoZero"/>
        <c:auto val="1"/>
        <c:lblAlgn val="ctr"/>
        <c:lblOffset val="100"/>
        <c:noMultiLvlLbl val="0"/>
      </c:catAx>
      <c:valAx>
        <c:axId val="5896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6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E70-B8C8-4670-A45B-6B62AF20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08C-CA27-4521-8EAD-537AB77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BB6-2ACC-4380-ACAA-F5DC851A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FAD-F904-480E-9712-23B0366A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95-12E8-4024-8D25-2FFF736C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8D2-12C0-4A4F-B227-8F5C2AA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E27-F396-415D-B409-AEDE8564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288-EA4F-410E-9934-B97D512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8B7-7AA9-4AD6-A276-22AE1C4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E9F-504D-41B2-BC62-CB0F692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F48-CF70-4A38-9D36-7B5C10E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AF5-947F-4971-887B-A02ADC6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799C6-B4BA-4406-9EB0-8AA4736443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