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59912"/>
        <c:axId val="73894338"/>
      </c:barChart>
      <c:catAx>
        <c:axId val="18659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94338"/>
        <c:crosses val="autoZero"/>
        <c:auto val="1"/>
        <c:lblAlgn val="ctr"/>
        <c:lblOffset val="100"/>
        <c:noMultiLvlLbl val="0"/>
      </c:catAx>
      <c:valAx>
        <c:axId val="73894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59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DD3-8302-4B47-B580-E7B04B5C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5B5-92D1-495F-A106-ECE9A7F8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281-4777-4041-BFF2-20927204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759-5545-4F32-AC8D-E3B3FADC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7B1-D391-4CAC-B46F-EA2C6A48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2BB-B290-4959-BF78-D81D42BD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E36-A3FC-44F6-8E7C-EA3CF92A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746-A802-43FA-9BAF-F7D570DC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4C9-3145-4511-A3C3-556F742D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4AB-7914-4219-BC39-25A55160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181-D90B-4F62-BAF4-D61E4EC9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6E6-09D9-42B0-8651-4E6C5BBD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7D813-BFCE-4052-A146-C80E04C4D7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