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486058"/>
        <c:axId val="67664656"/>
      </c:barChart>
      <c:catAx>
        <c:axId val="90486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64656"/>
        <c:crosses val="autoZero"/>
        <c:auto val="1"/>
        <c:lblAlgn val="ctr"/>
        <c:lblOffset val="100"/>
        <c:noMultiLvlLbl val="0"/>
      </c:catAx>
      <c:valAx>
        <c:axId val="676646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86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11B-9D4F-4103-B815-A2152AD2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D418-2FA3-4286-B881-251231B8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7D6C-CD28-4E69-A594-82BF3C0E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E25-719A-4FA6-A2AA-B914D9F8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C67-CD14-408A-818C-B42C6EB8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D08-556F-4C61-BC54-B3A3A18A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413-4D9B-4309-BF94-B8CE5728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63A-C9FD-4E0B-86AC-AAED5CDE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1A61-40EE-4B17-BFBB-6C1634A4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5EE1-1EBC-4B44-B739-CFD6EE69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1EA-7CEE-4AFD-AE4C-7A20034A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FFC3-04E4-49BD-A187-B6C70162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134E3-EC27-4771-B0FC-C44272F635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