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54895"/>
        <c:axId val="85915481"/>
      </c:barChart>
      <c:catAx>
        <c:axId val="56154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15481"/>
        <c:crosses val="autoZero"/>
        <c:auto val="1"/>
        <c:lblAlgn val="ctr"/>
        <c:lblOffset val="100"/>
        <c:noMultiLvlLbl val="0"/>
      </c:catAx>
      <c:valAx>
        <c:axId val="85915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54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B5F-96E7-4B02-BBEF-8594CE2D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3DF-D4E1-4E21-B624-55D9B72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A33-D998-42A4-A076-A2F0AF97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C6C-BC29-43B6-9ED3-D317BDAF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4F4-9439-4641-8DC4-74B77A4A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F41-127C-4D34-B95E-A27CFD29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ABF-DFF3-4C76-B157-2AA259FF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47F-3A4D-4627-B940-3FA22A57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7E0-404D-4875-AB84-28864019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914-7C4B-4D81-A4C9-B9A0B4D9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362-6D17-4231-9E3B-125D0AAC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0F6-198E-42BD-A9D7-13679BA1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0458F-0759-4E14-A58A-A045E600E1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