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51238"/>
        <c:axId val="83450477"/>
      </c:barChart>
      <c:catAx>
        <c:axId val="213512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450477"/>
        <c:crosses val="autoZero"/>
        <c:auto val="1"/>
        <c:lblAlgn val="ctr"/>
        <c:lblOffset val="100"/>
        <c:noMultiLvlLbl val="0"/>
      </c:catAx>
      <c:valAx>
        <c:axId val="834504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512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073-DDEA-4777-91FD-31E07788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F8CA-6EA5-4130-B1EE-762DA01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203-C18C-4CA7-8423-D071D1F3E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7FBC-4AD5-437D-97B5-D95425BD6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5CA5-6CB4-4881-8D07-07CBA9DF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00E4-8294-4F2D-8896-52CC0869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430F-CA7F-4D8C-B3FD-25A0C4F65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2C8-26A5-4A37-A9E2-478A2419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44E-16F8-471E-ACDB-06674AEA1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36A-3C39-4BB1-92BA-D25A71116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5AD8-8186-44D1-AF8F-C206F07F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0AD6-3C13-440D-95ED-A437ECEC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C41835-D358-4AA0-B173-E0085CA06D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