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34297"/>
        <c:axId val="81688748"/>
      </c:barChart>
      <c:catAx>
        <c:axId val="73534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8748"/>
        <c:crosses val="autoZero"/>
        <c:auto val="1"/>
        <c:lblAlgn val="ctr"/>
        <c:lblOffset val="100"/>
        <c:noMultiLvlLbl val="0"/>
      </c:catAx>
      <c:valAx>
        <c:axId val="81688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4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1AF-EE13-4057-BCD3-BEF2E84B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490-FF76-4868-8C63-A3B6127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0FB-BF89-4468-9918-864B69B0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358-9794-416A-B00A-34943FE6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5A9-C2B4-4810-B85B-47885672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2CD-BC46-4E7A-9752-FB4D7E3E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558-D361-44B1-A721-8300A2FF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D97-4106-4C85-91FD-CCA23F0B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1C0-CDDD-464B-8DB5-3EEB760F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A70-5650-4CA1-BFCC-7749F6B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064-B189-4391-8E3F-52E3607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E66-6EDF-4DD7-B6F4-BC025D31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8CFB-8320-4B1B-BF1B-10F4101D3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