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1460"/>
        <c:axId val="8029980"/>
      </c:barChart>
      <c:catAx>
        <c:axId val="8311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9980"/>
        <c:crosses val="autoZero"/>
        <c:auto val="1"/>
        <c:lblAlgn val="ctr"/>
        <c:lblOffset val="100"/>
        <c:noMultiLvlLbl val="0"/>
      </c:catAx>
      <c:valAx>
        <c:axId val="8029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1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60C-1F51-42D8-B8FF-C7B936C8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2EF-9497-433B-8675-A15E5649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570-4F66-4AC2-8B66-65C4CA06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F5D-C423-4339-B90A-3E92C209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5F4-F872-402B-8F5F-9F07757B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FCC-A68A-492C-B74D-4C475FEB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A5E-7DD9-4C58-8A54-80390B25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2C6-364E-4B03-B8A3-FDD47788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DD9-80CA-4C6B-B477-8A4F5A4C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169-E153-4D78-BD70-63883C4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EC2-881B-4DD8-9E11-3779F6BE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150-C364-4DB0-9AFD-D17B3BD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90339-6062-4401-B287-CE94EF9DC4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