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324207"/>
        <c:axId val="79858541"/>
      </c:barChart>
      <c:catAx>
        <c:axId val="433242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858541"/>
        <c:crosses val="autoZero"/>
        <c:auto val="1"/>
        <c:lblAlgn val="ctr"/>
        <c:lblOffset val="100"/>
        <c:noMultiLvlLbl val="0"/>
      </c:catAx>
      <c:valAx>
        <c:axId val="798585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3242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199C-1B88-4CBE-9BAB-FC266C96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0B49-03E8-4FD0-A86A-748BBC4B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0F32-6DBA-40E7-92C3-E8473BB30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7101-4025-4451-9EBD-54399DFD7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4AA5-379E-48AD-972D-C351A1FD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94E0-FEB9-444A-B48E-A6945B5D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E014-CFD4-46E4-812A-57C6BC77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4394-D352-4D4D-AF69-03304BAB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0B08-A535-4B77-92D4-D3B9C52C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99E6-0F65-41BE-A7A8-D0B1A7EF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BA55-EC63-4E01-BAB5-84417387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4B52-D112-459D-9DE2-B6F660CF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C7E43-7275-41E3-B142-FDB6C7F976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