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78184"/>
        <c:axId val="35504008"/>
      </c:barChart>
      <c:catAx>
        <c:axId val="92678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04008"/>
        <c:crosses val="autoZero"/>
        <c:auto val="1"/>
        <c:lblAlgn val="ctr"/>
        <c:lblOffset val="100"/>
        <c:noMultiLvlLbl val="0"/>
      </c:catAx>
      <c:valAx>
        <c:axId val="35504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78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957-AE8F-4A4B-B79A-7A28C0F1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0C9-F8A5-46BE-AF41-26898CA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550-080D-486E-8521-C4EA2674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51D-47E7-4B4D-AF13-45C09500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5BE-4905-4632-8F90-41CD54C5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E040-9D80-46E6-85DE-B41B397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B65-8EBD-4E63-BE16-2BCDF8BE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1C3-EB1B-470F-BCF0-CFB76DE1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8C6-86DF-492F-9546-1FA46CE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B7A-0A65-433E-90BE-10E4DF06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C8F-BEDD-481B-A83E-09E7056E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17B-C282-443E-A07A-F24EE50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1751D-54E9-4628-B3E6-1318AA93E6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