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94174"/>
        <c:axId val="62164583"/>
      </c:barChart>
      <c:catAx>
        <c:axId val="439941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64583"/>
        <c:crosses val="autoZero"/>
        <c:auto val="1"/>
        <c:lblAlgn val="ctr"/>
        <c:lblOffset val="100"/>
        <c:noMultiLvlLbl val="0"/>
      </c:catAx>
      <c:valAx>
        <c:axId val="621645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941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E683-EDB6-4BA7-9D36-4A7F07D3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2EDD-A35E-4346-9009-FA724788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5E3-7A9D-43B9-B95C-054AA87E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943-C939-4400-AE00-4F46AE5B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3DFB-92DF-452C-A04A-63F39089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F4C6-B3EA-4C54-96E0-6AFB0DED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B3C5-78D6-422C-88F7-B26D5CA7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1DEB-DF9E-405C-9423-DB0C2716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FC3D-D2BE-4404-9E29-C79935E8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525B-BB9B-47AB-83C8-712BA0CD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4DDA-4601-4BBF-8282-5F2B5BA3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6AD-D4EB-455C-A643-213F38D5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F3B7A-C680-4B5C-8C17-11BCE5EACA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