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43576"/>
        <c:axId val="11924487"/>
      </c:barChart>
      <c:catAx>
        <c:axId val="55443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24487"/>
        <c:crosses val="autoZero"/>
        <c:auto val="1"/>
        <c:lblAlgn val="ctr"/>
        <c:lblOffset val="100"/>
        <c:noMultiLvlLbl val="0"/>
      </c:catAx>
      <c:valAx>
        <c:axId val="11924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43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C95-6D8C-443B-98E6-996F983F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E94-D402-4CE9-8D6D-38340422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C95-2C8C-4559-8658-9084B3C6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DD1-FBD1-49AB-B092-B752F616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4E2-72FF-47A7-89A9-CD8BCC83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E10-CDA7-4D5E-99EF-CDC8E453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323-64B1-4E2E-908E-6601E455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88A-64AF-48D2-9673-4537C52E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728-A60C-4CF4-A0F2-39D2FBE4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F6D-85EF-4D57-866F-BC23B2DD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0B3-B1BB-4D35-ADC5-9B5364F8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000-0BAD-40A7-BF6D-FCAD006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944E2-7049-44C6-A989-50F480D982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