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437134"/>
        <c:axId val="77309176"/>
      </c:barChart>
      <c:catAx>
        <c:axId val="71437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09176"/>
        <c:crosses val="autoZero"/>
        <c:auto val="1"/>
        <c:lblAlgn val="ctr"/>
        <c:lblOffset val="100"/>
        <c:noMultiLvlLbl val="0"/>
      </c:catAx>
      <c:valAx>
        <c:axId val="77309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37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682-0EFB-43E3-B960-038FF247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C4D5-F090-41D1-BA8A-08339609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7487-9174-4DA9-91BB-3B08443F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4FA-5D3E-43D5-BE8D-A36ABF47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A4F-979D-470A-81B1-EB75159B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1D59-5F3A-48AC-88B9-8F781812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B84-D794-44EE-B6BC-664C6E2B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4C7-410B-4D4E-9D79-FD73B180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7D8C-36C0-442F-B22A-09C56CE1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E01-3DD7-4F1B-8846-3339D251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5B6-ABA3-488E-A023-1FCE432C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426-E260-4619-AB00-9A60BAE9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B8040-56A6-4841-A812-D5BBF839D6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