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02175"/>
        <c:axId val="66117679"/>
      </c:barChart>
      <c:catAx>
        <c:axId val="83402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17679"/>
        <c:crosses val="autoZero"/>
        <c:auto val="1"/>
        <c:lblAlgn val="ctr"/>
        <c:lblOffset val="100"/>
        <c:noMultiLvlLbl val="0"/>
      </c:catAx>
      <c:valAx>
        <c:axId val="66117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02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5B6-02D8-4498-97FC-880221A3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34E-F8FF-4DFE-AF34-849DBF78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76F-2C14-42E6-A13A-3D7A175B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D5B-769E-4E44-8E3C-7FF58AB9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FA5-BA6B-4810-ABF9-3E71E65F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5CC-4905-4A50-866A-F1A82FE8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5EF-BBFB-43DE-8C54-E4A14ECE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BA7-217F-4A98-BDBE-474E23F4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423-86D6-4990-BEDB-6A082F27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3E5-232B-46E0-9C7F-7E71BBE8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004-4B14-4540-B36C-4F6AAA30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8D8-A61A-45C7-AFDE-049277D8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F472C-5C85-4D03-B4DF-87B51EE076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