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4699"/>
        <c:axId val="94190232"/>
      </c:barChart>
      <c:catAx>
        <c:axId val="72846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90232"/>
        <c:crosses val="autoZero"/>
        <c:auto val="1"/>
        <c:lblAlgn val="ctr"/>
        <c:lblOffset val="100"/>
        <c:noMultiLvlLbl val="0"/>
      </c:catAx>
      <c:valAx>
        <c:axId val="941902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46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1E4-7DBE-49FB-8AA8-7540F256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11B2-4388-49D5-AEF0-2E0EF621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1F1A-4FC6-4465-BCC5-C738AAB8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D302-6C16-43B6-89C7-852620B7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4C5-2FEC-4640-8646-582B915D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C3F5-4C4A-41A9-B325-48FCE7CD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E7B-CDF9-4360-9994-728ED832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BAEF-2C6D-450E-85D6-91FB8EC5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D7D3-DE15-4884-B438-F37C90E0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875A-0B18-44F1-BF0F-76675692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3384-7276-48B9-8D42-61E3F07A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E661-0865-4073-97D0-5D152DB2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5C127-86CE-4DF0-A156-79336C09DA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