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97690"/>
        <c:axId val="49890779"/>
      </c:barChart>
      <c:catAx>
        <c:axId val="12697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90779"/>
        <c:crosses val="autoZero"/>
        <c:auto val="1"/>
        <c:lblAlgn val="ctr"/>
        <c:lblOffset val="100"/>
        <c:noMultiLvlLbl val="0"/>
      </c:catAx>
      <c:valAx>
        <c:axId val="49890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97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5A3-7718-4D29-B72B-A9D04D04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455-9F1E-418C-B8B3-6CB0F3D8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410-8100-4036-B790-7591E75D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20E-7145-43C6-B659-4CAA6352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269-71EF-4809-A39C-9F9DFAB3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CC7-BDBE-4F2B-A7F7-369BDA6F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10B-7C8B-45B4-A716-73539C24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7F2-56A1-406F-A74E-B1CCBF9D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F85-8B68-48C1-96BD-3B70CECA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0FE-D7F7-4732-8A24-807848F9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4EE-6481-4149-BA84-200CEC7D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CEC-B066-47DB-A37E-0605812F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285F8-356B-4377-B0D8-CD4C5DDF15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