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65902"/>
        <c:axId val="15294092"/>
      </c:barChart>
      <c:catAx>
        <c:axId val="26665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4092"/>
        <c:crosses val="autoZero"/>
        <c:auto val="1"/>
        <c:lblAlgn val="ctr"/>
        <c:lblOffset val="100"/>
        <c:noMultiLvlLbl val="0"/>
      </c:catAx>
      <c:valAx>
        <c:axId val="15294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5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2F7C-B7AE-421B-9135-E3B5741B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5EC-0230-4C29-AA58-F9877E6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A43-D3C9-4067-97E9-9187CB3E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616-6DD1-4E04-96B6-A1F2CD32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EFF-551E-4595-BDD4-795E813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2BB-46FC-400A-989A-D340F9B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FA4-7056-4425-AE19-ED342DD7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26F-0574-4CD4-8032-AB24374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E91-FA4F-4896-88D0-C488FCB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65D-B8B9-4399-93A9-4A31295E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D64-79E2-4B03-B152-6D04F68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AAA-2C2B-429C-87A9-0EC9120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A9303-4D22-4B34-8960-3D3115A5E8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