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426463"/>
        <c:axId val="55707481"/>
      </c:barChart>
      <c:catAx>
        <c:axId val="554264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07481"/>
        <c:crosses val="autoZero"/>
        <c:auto val="1"/>
        <c:lblAlgn val="ctr"/>
        <c:lblOffset val="100"/>
        <c:noMultiLvlLbl val="0"/>
      </c:catAx>
      <c:valAx>
        <c:axId val="557074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264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430F-1704-4F18-8F18-7FC6B8066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475C-0AAB-4901-A430-795EB751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7B87-0B6B-4CB1-962A-DAB09D682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5FB4-342C-4F2C-A62B-89CAC5DA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5FC8-5B0E-4290-8B20-12D34D01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86DD-ED7D-4B74-8072-E862FBA4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C09E-BA22-44A6-9C89-6F404E04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0312-531C-4E38-BCF6-3E857BF1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CCE9-B87F-43E6-BCC6-BB4649CA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B89F-CBB3-4A51-90A9-CE498E3E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AD14-3829-4FFF-9810-4D4527A2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DCEF-4865-475C-9983-050D229E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AF6F5-205E-4090-8B7F-2B7492B178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