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9267"/>
        <c:axId val="98374386"/>
      </c:barChart>
      <c:catAx>
        <c:axId val="7229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74386"/>
        <c:crosses val="autoZero"/>
        <c:auto val="1"/>
        <c:lblAlgn val="ctr"/>
        <c:lblOffset val="100"/>
        <c:noMultiLvlLbl val="0"/>
      </c:catAx>
      <c:valAx>
        <c:axId val="98374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9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88C-B498-458E-88B3-5206DDDE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7E9-47F9-42E9-813F-020FAADC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C51-63BB-4CC2-88A1-13E99523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BB1-DB39-4688-A335-11FF25EE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2C1-E867-45AF-B3D5-08A3A1E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DC3-4E7A-4952-A6FC-3337DDB1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A32-D8F7-47EC-9278-280E1783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EF5-DB20-4C47-A12C-B4476523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AD5-826B-46F0-B1D4-63EF5230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1F0-D0B9-4C90-A9FA-1E4CEE63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E9D-B952-489A-861D-719CB0E9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D3C-95CE-40B4-B674-04E7E452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FF75A-0D28-4695-A80E-6F050D6DD1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