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076543"/>
        <c:axId val="66190566"/>
      </c:barChart>
      <c:catAx>
        <c:axId val="60076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90566"/>
        <c:crosses val="autoZero"/>
        <c:auto val="1"/>
        <c:lblAlgn val="ctr"/>
        <c:lblOffset val="100"/>
        <c:noMultiLvlLbl val="0"/>
      </c:catAx>
      <c:valAx>
        <c:axId val="661905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76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99F5-3F5A-4638-900C-B4B05721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F80-13C5-4FB3-8DEE-5639E619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898-A313-4121-9184-1BABEDFE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981-B331-42FC-A51C-FC1732FD6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75A-2531-48B0-A18A-FF1E9D9D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D69F-1B1D-4BD6-8D63-31FEF4DD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EAC-E651-43B1-83CC-F8834AE0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AF8-975C-4FEE-B4AB-1E7E796A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707-3CA5-411E-AB1A-EC0E0A8A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02F-04EB-484A-97D1-7538C46A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1C5-61C1-4BFB-B439-C9FD8E6E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7828-FFEA-4D6A-8D89-8A17BBE5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D88A5-5BF9-4B8F-8DFD-6B49D078E4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