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09454"/>
        <c:axId val="71390251"/>
      </c:barChart>
      <c:catAx>
        <c:axId val="61209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90251"/>
        <c:crosses val="autoZero"/>
        <c:auto val="1"/>
        <c:lblAlgn val="ctr"/>
        <c:lblOffset val="100"/>
        <c:noMultiLvlLbl val="0"/>
      </c:catAx>
      <c:valAx>
        <c:axId val="71390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09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77D-77F4-4040-A244-322C6B5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AE8-E127-4986-8EF3-4C10F87A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B4F-2784-4B44-AE98-40B5C1ED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3E0-4950-4AA6-92AF-E759AA6D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809-278B-4149-99DB-08069AA5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366-9F05-453E-ACEC-739471A3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37A-6A7F-4D7C-BCBC-9D04FFE8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95C-27D6-4DE5-87F4-4507DAB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393-4E9B-4052-8130-3367C4F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E07-002D-4861-80D3-6C672CA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816-D1F2-4D89-8667-B7259939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946-71EA-4427-B5AE-7ED69B2E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04996-8EFA-44D5-A626-05B35134B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