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04448"/>
        <c:axId val="71241124"/>
      </c:barChart>
      <c:catAx>
        <c:axId val="14504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41124"/>
        <c:crosses val="autoZero"/>
        <c:auto val="1"/>
        <c:lblAlgn val="ctr"/>
        <c:lblOffset val="100"/>
        <c:noMultiLvlLbl val="0"/>
      </c:catAx>
      <c:valAx>
        <c:axId val="71241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04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7F2-3FB4-4218-ABD9-57E5AF31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65A-D8EC-4A99-8256-412A931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EF6-BF0A-48D3-AC3C-7A6AC57B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957-6A7A-4C99-A5D0-6EFE8600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3AC-5B2C-4783-9C60-F7180CC9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37C-0BF4-4745-805F-784CD146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7D1-D543-40F4-B8A8-D0FE906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DC9-4A91-4BA4-8704-5B111B93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E7E-053D-4CD7-A249-BC738B1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A76-D494-4186-948B-C5DD5BD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954-ACED-4099-9E67-443FBFC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AD1-7C0C-47B6-B7C7-9B0EAFD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1AB33-F40E-48B0-A133-9738480B18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