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91955"/>
        <c:axId val="50998888"/>
      </c:barChart>
      <c:catAx>
        <c:axId val="55791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98888"/>
        <c:crosses val="autoZero"/>
        <c:auto val="1"/>
        <c:lblAlgn val="ctr"/>
        <c:lblOffset val="100"/>
        <c:noMultiLvlLbl val="0"/>
      </c:catAx>
      <c:valAx>
        <c:axId val="50998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91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453-811C-4A52-9832-455DC027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400-2C4D-47A5-A45C-60FBD1A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B13-E826-4E98-ABAB-542FE2BA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027-2999-45CF-951F-CA3205B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016-6BEA-4A8C-9432-2DA44D5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630-F892-4F8E-99F0-7704946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1F-1A75-4C88-96E7-B496A439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466-FE01-4536-8EF4-D828FAE9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3D0-F126-41D5-87FB-263F823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FCF-1FAD-4708-B572-E99BBFF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920-0908-4D5E-B3C1-750F5758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7F4-F69F-48B8-9F97-44F8DC7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648F8-4A4B-454E-9B99-A0CD78D24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