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0937"/>
        <c:axId val="69117798"/>
      </c:barChart>
      <c:catAx>
        <c:axId val="7580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17798"/>
        <c:crosses val="autoZero"/>
        <c:auto val="1"/>
        <c:lblAlgn val="ctr"/>
        <c:lblOffset val="100"/>
        <c:noMultiLvlLbl val="0"/>
      </c:catAx>
      <c:valAx>
        <c:axId val="69117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0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CEC-4ECF-4AC2-83F5-F9357E45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2CC-450A-4BF5-B008-1779AB54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C46-E9A2-446A-8D24-ADEF7CE5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523-945C-42F3-A52C-8105AED3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22A-1C6B-4FBF-8610-F9A3547A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839-6E36-4301-8408-3510D71C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C00-A546-496D-AA90-9E09EE5E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4E6-F3EE-44A5-AF0C-91CAD15D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71F-1D52-48DD-90C9-53B902E6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7B4-A2B7-4541-B538-2FC9427A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E90-9DEB-4E03-9C40-81CD3CD5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509-42BD-463D-B389-7AADCD48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3048F-B456-457C-BEF1-23A1D43CDB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