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507019"/>
        <c:axId val="34033660"/>
      </c:barChart>
      <c:catAx>
        <c:axId val="785070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33660"/>
        <c:crosses val="autoZero"/>
        <c:auto val="1"/>
        <c:lblAlgn val="ctr"/>
        <c:lblOffset val="100"/>
        <c:noMultiLvlLbl val="0"/>
      </c:catAx>
      <c:valAx>
        <c:axId val="340336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070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8494-2CDB-4F31-B3E1-C302BDD1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EA43-63E3-4CCD-9F8C-ADE619A8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11CE-5AE7-449E-8600-9E656820A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1AB6-A962-4882-AC49-59F628287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92D9-A64D-4845-856A-15BD5B3B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8998-6170-466A-B436-DFF2EE0C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536A-A5C6-48D1-BBB0-E458CCF8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C055-491E-4CCE-B47E-6B34410E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BC7B-0ED8-4045-9E7B-2E65C5C8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540F-20A4-4FFC-87E0-EEC0AD20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FED9-08CC-49AF-97A9-A0215C90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B9C2-56D2-4BE8-9DAC-737F0FC4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120BA7-26A3-413A-BF9A-158B66F4D4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