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33688"/>
        <c:axId val="92407097"/>
      </c:barChart>
      <c:catAx>
        <c:axId val="996336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07097"/>
        <c:crosses val="autoZero"/>
        <c:auto val="1"/>
        <c:lblAlgn val="ctr"/>
        <c:lblOffset val="100"/>
        <c:noMultiLvlLbl val="0"/>
      </c:catAx>
      <c:valAx>
        <c:axId val="924070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336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01D7-10BE-4873-8C42-F14758AF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1783-96D9-4E6C-9EBD-BA985C12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79BD-21AD-4233-91A0-2EFC1983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61BB-1DC8-47C2-9C7E-77A7A07F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557D-0B0F-4701-91CB-608E0159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0C3B-517A-4F21-B42C-B4636BE0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337-893B-465B-94E9-B238DFCA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486-F7E9-4D8E-AA9B-B32C2A66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ADE0-A4A8-49DA-A299-2D148669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7F7-612C-4666-BB99-B080A4D6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901B-8CE8-44BD-BB76-232F1EC0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44E0-7ABB-43E9-841E-2188F7D0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9AD18-D003-44DB-8443-19B513D3F2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