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81830"/>
        <c:axId val="3361786"/>
      </c:barChart>
      <c:catAx>
        <c:axId val="47381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786"/>
        <c:crosses val="autoZero"/>
        <c:auto val="1"/>
        <c:lblAlgn val="ctr"/>
        <c:lblOffset val="100"/>
        <c:noMultiLvlLbl val="0"/>
      </c:catAx>
      <c:valAx>
        <c:axId val="3361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81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262-7777-47B1-954D-7EA01153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10F-9791-4843-AC42-FFEED391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CEA-5E34-4C7C-9ACA-53360828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21D-6565-494E-991B-C2C7BF9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D3F-9FB7-42F4-9CD8-9D832DBD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94C-D4F0-4222-B5EB-70F682D3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784-0F57-4A42-ABD4-CC053593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C75-DF7B-4AC1-A241-B196AC8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CB1-D45A-4297-8175-2D2E896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2FF-C763-4AB9-BB19-DFCBAF5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733-93D2-489F-9D0E-BAE6832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B0D-7CD2-49DE-A090-53D268C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DB553-EDD3-44F4-A82D-3A70DE2EB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