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74121"/>
        <c:axId val="92942113"/>
      </c:barChart>
      <c:catAx>
        <c:axId val="577741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2113"/>
        <c:crosses val="autoZero"/>
        <c:auto val="1"/>
        <c:lblAlgn val="ctr"/>
        <c:lblOffset val="100"/>
        <c:noMultiLvlLbl val="0"/>
      </c:catAx>
      <c:valAx>
        <c:axId val="929421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741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669-1F75-40BD-8A6E-5F8DFCFA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452-0FF4-4777-8C56-4E6728C1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C28-7FC9-4300-99F1-9C676DAF4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1C3-A8FA-4E34-BFE7-EBD885F64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395-3447-4950-8D66-157D75A6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CB4-3777-4C04-9509-8A35AF21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9BA6-F997-4E22-871B-5D8E741D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7FBA-1BCE-4069-ADE8-325AB87A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0CD-3079-4D70-9894-21A17EAE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2BD-B257-4C10-9347-840B2A8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52D-F289-4848-9462-6BC5167E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A8F-ED70-427A-BD1E-474A0BD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30EB5-BCC3-49E5-B516-867DF39F73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