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006"/>
        <c:axId val="64569724"/>
      </c:barChart>
      <c:catAx>
        <c:axId val="350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9724"/>
        <c:crosses val="autoZero"/>
        <c:auto val="1"/>
        <c:lblAlgn val="ctr"/>
        <c:lblOffset val="100"/>
        <c:noMultiLvlLbl val="0"/>
      </c:catAx>
      <c:valAx>
        <c:axId val="64569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65A-193C-4D26-8780-89C39FA6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6A6-9C4E-4B55-9AD0-712E86DC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FC3-FF17-4BEC-AE83-9F4C4C2B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4EF-3C29-44F1-BC5B-E743ECBA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703-CB0D-4727-BD85-F4DB9551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522-92D0-4332-82C1-27E5217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B14-4F69-4F54-B14B-39EA084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EAE-77C5-4AEA-B775-9F54474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A72-7B36-4A69-AE18-8AFB0F0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84B-5AD0-4495-B604-B2C4B61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D4B-378C-4B52-B42F-2FF64F0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94B-C81D-46D1-9F65-D34C263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7E5C-C450-4246-849E-9AB82035CC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