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97529"/>
        <c:axId val="91493507"/>
      </c:barChart>
      <c:catAx>
        <c:axId val="72497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93507"/>
        <c:crosses val="autoZero"/>
        <c:auto val="1"/>
        <c:lblAlgn val="ctr"/>
        <c:lblOffset val="100"/>
        <c:noMultiLvlLbl val="0"/>
      </c:catAx>
      <c:valAx>
        <c:axId val="91493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97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271-49F5-4466-923B-F1B3668A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8B4-6DFD-4F65-8556-0E7EF838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5B5-170A-4EB8-AF60-AAE2E99E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4F2-5C7B-4535-98B5-A85D69AB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09B-6549-4511-AB16-A5C1964D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1A1-3ADF-44DD-BA62-BC204062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259-2114-4A25-ACC5-62BF8056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2E0-7C4E-434C-AF64-4E414AAF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B32-8866-4BD3-AD55-1EB19762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CDA-A805-4365-82AD-4DC0F8F6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D68-5D97-40EF-A81F-AF25078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7E3-D99E-459A-9289-E7E2535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C5837-328A-47C5-89FE-745FC1B0BE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