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0587219"/>
        <c:axId val="64231328"/>
      </c:barChart>
      <c:catAx>
        <c:axId val="6058721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231328"/>
        <c:crosses val="autoZero"/>
        <c:auto val="1"/>
        <c:lblAlgn val="ctr"/>
        <c:lblOffset val="100"/>
        <c:noMultiLvlLbl val="0"/>
      </c:catAx>
      <c:valAx>
        <c:axId val="6423132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58721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BA48-1D23-4E7C-B15A-9E0BA95CD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EDE5-D483-4D7B-B5CF-09DC0B737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840A-6763-488E-BD0D-C5BC65B6A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EC39-1A33-4DBB-9066-6AD5C1C62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916D-08A3-43EE-9712-55F7A87CF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BAB5-3CDB-45AB-854E-429BDADE7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8357-DDAF-4BFF-B83A-D672553C7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FB6A-3B2A-4C95-AA3B-24D982A48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9782-3D59-4F62-889C-F8DE0342F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E29C-04EF-4BF5-A3AD-3165E8338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CB47-982C-4F9E-9E8A-53DB5D356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100C-0B92-49EE-9010-A142E38C4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55D995-6B52-4D5F-B94B-00B888F20B3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