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80250"/>
        <c:axId val="73775850"/>
      </c:barChart>
      <c:catAx>
        <c:axId val="62980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5850"/>
        <c:crosses val="autoZero"/>
        <c:auto val="1"/>
        <c:lblAlgn val="ctr"/>
        <c:lblOffset val="100"/>
        <c:noMultiLvlLbl val="0"/>
      </c:catAx>
      <c:valAx>
        <c:axId val="73775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0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915-6C93-4378-8558-C6CCA50E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6FA-CA9B-4EE5-8709-ECE476F1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F94-837D-45FF-9E8E-8CDD26FA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106-3AFE-4929-B14E-2ECAF997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93F-E7A4-4933-AED0-0E4D5B6B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367-EDC6-4B1D-B2D4-15F640B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CB5-D769-45DC-9444-287D2B20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242-3419-448B-B4BB-F550B93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82D-639B-4E1B-828B-23E69EE6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1AA-7C1C-42B0-8C7A-15D3B883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77C-9A61-4F9E-A11D-BE772D0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130-BE44-41BE-8404-15617BB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DEF5-5138-4E7C-B848-7F5C610EC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