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92493"/>
        <c:axId val="53940794"/>
      </c:barChart>
      <c:catAx>
        <c:axId val="39892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40794"/>
        <c:crosses val="autoZero"/>
        <c:auto val="1"/>
        <c:lblAlgn val="ctr"/>
        <c:lblOffset val="100"/>
        <c:noMultiLvlLbl val="0"/>
      </c:catAx>
      <c:valAx>
        <c:axId val="53940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92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863-8AC0-4ACC-B840-F1BFDD64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BBC-A9BD-4576-9149-AC9F22BA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CC1-E365-441F-942C-D52B61FA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940-ABF9-4F50-81CD-493E4676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4F0-A65C-47DB-9BE6-31DEB1CC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ADC-88DD-4FA7-BC50-349BE668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7C8-7164-462D-96B8-EC189D7B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114-1424-4B05-AA6A-C0A81474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855-0969-4F11-89F7-8CF7BDA1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90A-5D39-4C15-A931-FEDD5DD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59C-A27C-431B-B99D-7ACFAA3B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578-29C1-46D9-9AF0-829F917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928D-169F-4C18-A46E-9333E3D12F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