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923044"/>
        <c:axId val="39213479"/>
      </c:barChart>
      <c:catAx>
        <c:axId val="319230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13479"/>
        <c:crosses val="autoZero"/>
        <c:auto val="1"/>
        <c:lblAlgn val="ctr"/>
        <c:lblOffset val="100"/>
        <c:noMultiLvlLbl val="0"/>
      </c:catAx>
      <c:valAx>
        <c:axId val="392134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230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A030-407E-47E2-80DC-A318F391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3F49-1D76-4777-ADDE-1FFCA878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2AC2-35E0-4B94-A8CB-8F5128974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F7B9-761C-4512-9B75-F533421B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BC6E-62B7-496E-A8E6-66845029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8750-1576-472D-982C-2BCB31D8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7B6D-D1A2-43A4-AC3D-2233FDD3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F113-2519-4163-8503-72D17496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031-B4A2-475E-B898-2F93379B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8AAD-6239-4079-999F-3A6ED62F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FE6C-54EB-4AC9-830C-8CAE30FB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0B1B-AD78-4FB6-A19F-A41064C7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7260A-5184-4E67-A3AE-2324CAE1A3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