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48882"/>
        <c:axId val="62723795"/>
      </c:barChart>
      <c:catAx>
        <c:axId val="83448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3795"/>
        <c:crosses val="autoZero"/>
        <c:auto val="1"/>
        <c:lblAlgn val="ctr"/>
        <c:lblOffset val="100"/>
        <c:noMultiLvlLbl val="0"/>
      </c:catAx>
      <c:valAx>
        <c:axId val="62723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8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D31-BA07-4C9D-A771-AEE9BB08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1E1-1A70-42D7-A274-C1870A7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8F5-5226-49F5-921B-099F4E1B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6D2-505B-4B2A-808A-D6B0A2AD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F83-EEB3-4832-9BDA-B3A98293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144-0B03-4658-9D36-044696E4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FC4-D54A-4CDB-B5C1-0AC8F7CD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5CF-1B3D-40F7-8F4F-B0AAD8E7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B15-258A-4772-85A9-E14E12BF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348-9C15-44BB-A2A9-6C68AE9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47C-9DF6-448A-92F0-AA52592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606-E3F9-4F37-96DC-1AA3A06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F39F-E9B0-4992-9030-119CAA0667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