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98844"/>
        <c:axId val="35233120"/>
      </c:barChart>
      <c:catAx>
        <c:axId val="896988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33120"/>
        <c:crosses val="autoZero"/>
        <c:auto val="1"/>
        <c:lblAlgn val="ctr"/>
        <c:lblOffset val="100"/>
        <c:noMultiLvlLbl val="0"/>
      </c:catAx>
      <c:valAx>
        <c:axId val="352331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988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786C-2F59-4BA8-9662-69ED31B4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5F65-B8DA-4061-B5A1-FF913A78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C16-CF9D-43A4-ACA6-36DBC73C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9852-AD42-4BD5-8E98-6E439140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DE0A-2A1E-42B8-8053-0D56EFD8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8833-83E8-4229-BD29-DC96F6FF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B8DD-3908-4884-A904-30C0ABEC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9A8E-5A56-4BEC-92DD-A468F2D5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1568-64DC-4B77-9F9A-6D28FBC0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F85-10F9-473A-B366-7C62F727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E7D5-FD9F-46D1-8626-202B424D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472-6486-4A77-8A38-AADEEDAC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80DF0-7592-4711-8B55-874B04A314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