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047900"/>
        <c:axId val="22041396"/>
      </c:barChart>
      <c:catAx>
        <c:axId val="600479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41396"/>
        <c:crosses val="autoZero"/>
        <c:auto val="1"/>
        <c:lblAlgn val="ctr"/>
        <c:lblOffset val="100"/>
        <c:noMultiLvlLbl val="0"/>
      </c:catAx>
      <c:valAx>
        <c:axId val="220413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479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E51C-8B54-4FBF-BA25-1F457A693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5EC2-FB5F-484D-A87D-E7F14B9D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049D-F330-454E-A9FF-35BF2A594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BD67-2DEF-40DE-B35A-4A6BB579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544D-DD5B-4166-9411-BF37D373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67E7-E8D6-40FD-8127-F6B6D1AC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FC7F-CAB5-4743-A681-72CDC79D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4AED-A093-4CA5-8D3A-4F9467E4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3916-7AB8-4271-B75F-D4BC1B07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356E-240D-4C96-A427-7A2E1E7C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22C1-EDAE-47E3-ABAE-F6D94E33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B289-33A2-4154-B021-118696F3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CBA07-3390-4222-AC3D-733727AFF1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