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8B6E-7F52-4BDF-A640-8FF1E7CCB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85C4-B4FA-4D83-A06C-1D647C0848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C9EB2-D776-4894-92B7-EC0ECFD2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2DAD-05CB-4BCC-8321-955393FA9B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86E6-4166-4B91-8447-16C49F1D8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8A70-A564-49C3-B047-877887C9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BE94-D57E-490C-9C61-972541794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8E301-4477-4C0F-98A6-AF8015B7A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B946-60DF-4CD4-8070-94D920557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31A50-E56E-4018-9C26-E5138437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5D95-66A5-43B7-9F99-54793CA11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C5F4F-5CDD-4F11-9D82-6DE94CBC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B04E-CE97-43F5-B73D-085E06446DA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2T08:00:02Z</dcterms:created>
  <dc:creator>Mike Kaganski</dc:creator>
  <dc:description/>
  <dc:language>en-US</dc:language>
  <cp:lastModifiedBy>Mike Kaganski</cp:lastModifiedBy>
  <dcterms:modified xsi:type="dcterms:W3CDTF">2019-02-22T08:00:38Z</dcterms:modified>
  <cp:revision>1</cp:revision>
  <dc:subject/>
  <dc:title>PowerPoint Presentation</dc:title>
</cp:coreProperties>
</file>