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309256"/>
        <c:axId val="7566989"/>
      </c:barChart>
      <c:catAx>
        <c:axId val="433092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66989"/>
        <c:crosses val="autoZero"/>
        <c:auto val="1"/>
        <c:lblAlgn val="ctr"/>
        <c:lblOffset val="100"/>
        <c:noMultiLvlLbl val="0"/>
      </c:catAx>
      <c:valAx>
        <c:axId val="75669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3092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24F2-B0CB-4992-A4D6-73FD22D72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E04B-8834-4C84-BDCE-5131AFDF0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FF5C-7C27-4F80-827F-4CD0C156C9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4D98-B237-44CE-8DEB-9255A5C57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DC17-A85D-47D1-A978-1C1E382C7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D18C-BDE5-4052-8952-F29DB51AB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41FA-FB9A-4446-B5BC-2F5FCDF7B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0B48-53BF-40F2-946C-53A08C02E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C25A4-A0BC-4E07-855C-C4BBCB9A2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D1BC-C617-4473-AE02-9F4A99FE2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F6B7-1BEE-4ED5-89BC-3114D1CD3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094A0-BC7D-4901-A7AD-E4311CB89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7EABCB-6217-45E2-BA38-BEB7BB8F255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