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93158"/>
        <c:axId val="52232368"/>
      </c:barChart>
      <c:catAx>
        <c:axId val="96993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32368"/>
        <c:crosses val="autoZero"/>
        <c:auto val="1"/>
        <c:lblAlgn val="ctr"/>
        <c:lblOffset val="100"/>
        <c:noMultiLvlLbl val="0"/>
      </c:catAx>
      <c:valAx>
        <c:axId val="52232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93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655-DF07-4515-BDB5-6E80165D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895-7FBD-43FE-81FD-9AE83DA0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84D-B8D6-452C-870E-7550B1BF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349-B2BE-4FFF-B60E-E07966F8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0D8-3833-4902-BD08-CD93D2C0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7BB-B42B-4937-80B1-D0D9F26C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A4F-4616-4D77-BC8F-F56C2655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B04-00FB-49C6-A86A-ABDF223F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40E-21F4-45DD-86C4-A376132A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14B-D220-4591-AD88-B08AF4E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AFE-C5BC-41B1-8E33-63C5C60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B2A-355D-4475-81B8-0ADDC61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A60A1-9989-41BC-A243-521E51E1FD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