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646941"/>
        <c:axId val="64249937"/>
      </c:barChart>
      <c:catAx>
        <c:axId val="776469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249937"/>
        <c:crosses val="autoZero"/>
        <c:auto val="1"/>
        <c:lblAlgn val="ctr"/>
        <c:lblOffset val="100"/>
        <c:noMultiLvlLbl val="0"/>
      </c:catAx>
      <c:valAx>
        <c:axId val="642499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6469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1DF9-F1B4-465E-916E-54D3543BB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6F1D-0412-485E-8CD4-25C79B1B3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5C00-4099-42C6-B465-F8EAB147A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6414-1FE1-409C-BAEB-15C2CEC77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F6B0-C678-4437-8B2A-C535F54E4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D761-806C-467B-836C-13960E4F7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76AC-0101-41EA-B1AC-C3840BE97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3A1B-697D-42F8-A8F5-12C86A886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0580-523E-49DF-A368-BBE359273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C66B-685A-4663-8EA3-26392900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A9E4-4DAE-45BE-B2B3-255D60FB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43CC-A605-4E11-A36F-50C4FEAE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70221C-8808-4544-8DEA-7DF07BE54E3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