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71156"/>
        <c:axId val="60486522"/>
      </c:barChart>
      <c:catAx>
        <c:axId val="95471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6522"/>
        <c:crosses val="autoZero"/>
        <c:auto val="1"/>
        <c:lblAlgn val="ctr"/>
        <c:lblOffset val="100"/>
        <c:noMultiLvlLbl val="0"/>
      </c:catAx>
      <c:valAx>
        <c:axId val="60486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71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19C-0F51-4AAA-B8DB-CA43DFDF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E45-55A2-44C1-8D05-BDF0CFE6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2AB-FEEB-49F8-A0AD-A76AF608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548-2E9B-465A-9906-B5999B3D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D0B-1CE9-4391-A17C-E91DAA1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43E-7FF1-47FD-82F5-81774FD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2ED-345D-4F2A-B82A-AAE721E4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3F5-BF23-4DE9-8CF2-2872224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9B4-7443-4BE5-9E12-E3EF61B6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342-D433-472B-8F96-0F38CF6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0D1-D8C4-4212-955F-3D7F5F5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643-FE2B-4A26-AB64-6D6BD76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DE070-D719-4171-84AE-F408861972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