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30939"/>
        <c:axId val="52912251"/>
      </c:barChart>
      <c:catAx>
        <c:axId val="75230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12251"/>
        <c:crosses val="autoZero"/>
        <c:auto val="1"/>
        <c:lblAlgn val="ctr"/>
        <c:lblOffset val="100"/>
        <c:noMultiLvlLbl val="0"/>
      </c:catAx>
      <c:valAx>
        <c:axId val="52912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30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B46-B7AA-4866-B2BC-E0D78551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AA5-8215-476F-B8C7-B634D9B4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571-C77E-40D2-85C0-51B3FD92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890-F52C-4B3C-BA08-6EE55E8C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062-D7C4-4B65-AD7B-31B9BED9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80D-4094-4C6C-A6A4-FB257F21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CEE-EAD4-481A-BC24-8156F3C8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E46-DA74-4EFD-B12D-847BD7DB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686-BD58-4D07-B10E-EDD8E054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008-F9F7-4557-9EF3-1403447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A3F-85A8-4583-A970-6492B5B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DA8-9DA0-49D9-BF47-5C2A7A3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ED225-844D-43DB-AFC6-C45F63D563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