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56859"/>
        <c:axId val="74273124"/>
      </c:barChart>
      <c:catAx>
        <c:axId val="2345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73124"/>
        <c:crosses val="autoZero"/>
        <c:auto val="1"/>
        <c:lblAlgn val="ctr"/>
        <c:lblOffset val="100"/>
        <c:noMultiLvlLbl val="0"/>
      </c:catAx>
      <c:valAx>
        <c:axId val="74273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2B4-79F1-4D20-8E3D-A9BE120C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9BC-D8FF-446F-BFFC-18BA43A6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CC7-0081-4FB9-BFD9-A5366B95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DE6-658A-4DA6-813F-15A89367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F56-F0F4-403C-8CF8-C43CB91F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688-A313-4F03-85C6-5C3ABF58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905-1CE7-4228-8F1E-61F99B5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4E4-0CA0-489E-8659-3BFBD12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552-EB57-46C1-A96E-4A91764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D02-BF0A-4BF4-8CEC-0DA5EC0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D0E-91AA-4AD1-A0E7-5C7D3A3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CDC-97E3-4DD3-AFEE-E1EF0AA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361D9-AD9E-41E6-9A2D-EC53BD1E5B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