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70645"/>
        <c:axId val="25482978"/>
      </c:barChart>
      <c:catAx>
        <c:axId val="46370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82978"/>
        <c:crosses val="autoZero"/>
        <c:auto val="1"/>
        <c:lblAlgn val="ctr"/>
        <c:lblOffset val="100"/>
        <c:noMultiLvlLbl val="0"/>
      </c:catAx>
      <c:valAx>
        <c:axId val="25482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70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2FE-3F61-46B5-BA4A-A48E4530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C8C-EAD2-4AD6-8745-1CD822F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A3A-ACB2-4BE8-AF0F-32E4F997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DF4-3156-469E-BD05-ECACACDA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5C8-A994-4220-ABDD-928C4FDC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10-0D61-4C78-BD7A-84F78C7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F45-3EBC-46AA-8E4D-A718B8C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0C4-B103-499C-922D-D9036496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9AE-5C5D-4A3F-8E16-D9C4500D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7F0-8D8B-49A6-B581-4E5D948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C0C-A2E3-4D34-BC90-850A6B1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779-04FE-4122-A28F-A6BCAD7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C78B-95F1-4506-926D-BE91CC028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